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wmf" ContentType="image/x-wmf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A5C6-CCF1-4DEB-ADDF-E64DA2C35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360D-37AB-4536-A29A-A24DE164A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06E5-5080-4869-B6D5-DACB54290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DC11-7E3E-4C54-8C33-6B1FD7103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57389-870A-4750-9167-984E5C9D5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84DB8-D33D-43B3-A46C-C751A28FA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352EB-D6AE-46D0-994A-AC021BBEF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71CD8-8796-4211-8EB1-8D9DD7A61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62F4F-39DD-4FBE-BB91-6D2FA2DE5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B1531-58B1-4233-914B-E6ED29B1C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44123-4A0B-43C6-9367-A2F3A3249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96F2-7CF7-4F34-B221-560C81AB7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B1CD5-EB39-4ABE-8EDB-47C758E67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76D4A-3385-4784-BEFC-653A271C9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ADD6D-4777-4DDC-A10A-505A0D9E2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D722F-ABD5-4BDE-92A7-EFC90D991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38557-9886-4214-BBA7-A9A32BD05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BB1046-CBAE-4D77-A869-9907DFC8C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C6274E-C5A4-407E-AC1B-962A74330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310C93-F537-47C7-B57A-39BB6AB4F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C925CB-C398-4A15-AB16-4EDC834AB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AC6869-280D-4208-BEC5-E290625EE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CD91-B5C2-4DE7-8CFD-94F300DF3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B090C3-A7A9-42D3-B2A3-637ED956E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D51F43-8A49-4BE7-85A1-8E26F19D0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1A4CA0-B49B-4E34-9344-E4A4BF17D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D52FFD-8D03-44EF-ADC3-9530C56C4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DFE27C-E3D8-4160-B9B5-13BC6ADFD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42149A-7F2B-4B7A-9D27-AEE1561B6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303EFE-9147-4DC1-8168-A81946A24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2A771-E24F-40E6-940F-B8949A9DB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4BD70-916F-42D1-B756-FDCCD798D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8CACB7-1D9A-466F-8087-D03DA3ED7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C68F-939E-48FE-80DC-64B2EC322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1F1FA-1778-43E9-8E00-FA1EEBA29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73FDB-9AF4-41AC-A6E1-26355D65B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72ECC-09F2-48F7-8D3D-9B01CBBC4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14321-3382-4141-94A8-E1B3736EE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FEE2A-6B6D-4140-8211-32B0B6C7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4AEEA-0608-4153-B19E-9304AA99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6C41A-70D0-44E7-909F-E04C0FA10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C18F6-88A1-48DA-A3BE-00E3EBA90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60566-3048-44C7-8DD5-F2FB72499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86EE32-059F-4383-9CC1-1BED4CAC0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F6A7-0680-4F5C-BD09-8232A86F7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8918F2-5642-4DC6-8C7D-6D0B96253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F65B65-3509-43A1-861B-8040C175B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6B1A11-31B7-4515-A159-A6B5DB63F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E6FC16-0921-45F9-87C4-8BF9F71C2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CD2D76-F251-48AB-A015-DFA893133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1B305-24DD-4267-85B3-206CC15DB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70060F-0BD1-4888-A93B-7120D5D79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095176-0387-4755-A60E-70BA12C46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97888B-AEAA-42D5-9E80-93D352BD2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B13926-76AC-4D01-8381-182BFD221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3F56-1E05-465F-A31D-222B8DC48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E952A3-FA3C-4446-9081-57F8C8D3F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798B80-B6D5-41D2-A8E3-411E5D920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9D8771-E6EF-4519-B8EC-79E6E3D79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C4D88E-4301-4738-9F56-16995E30B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70FDD4-B6BC-42B3-8171-FEEE985CE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AB2536-A871-4FB2-9926-78EA5B92C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2C3994-B324-4268-ADE7-A4AA4E7D7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0ACE57-3B9D-418A-9582-E224BB9B1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555DB0-50F6-4A37-B945-AB0784BAF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BECA0A-B715-4AC2-A241-07FB52802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32D6-B130-4100-8FA7-A1DE57710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B15D52-E9A2-4BD9-A263-9E796181F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A7FBA2-CC01-45E7-8B58-FC7304252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9BFE22-2CE7-4183-A80D-4CF1B94FF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0D52-526F-44BD-B779-D19E66F3A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DE91-13E2-4472-9E88-EAD53C61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37EC0-7932-404B-BE1C-D30498A0DB2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92540-3BC8-44F0-854B-592DF324EEB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56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1" name="PlaceHolder 1"/>
          <p:cNvSpPr>
            <a:spLocks noGrp="1"/>
          </p:cNvSpPr>
          <p:nvPr>
            <p:ph type="sldNum" idx="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77338-0955-45F2-B52A-ACCD443E90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ftr" idx="9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413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9DC41-30DA-41F4-86E1-1D9F78C516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8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669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0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671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96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697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2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713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5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716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5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dt" idx="13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 type="ftr" idx="14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 type="sldNum" idx="15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0F3AB-8C6D-4AE8-B048-24ADD5323D46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4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775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76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777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02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803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8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819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1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822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1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dt" idx="16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 type="ftr" idx="17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E585C-01A4-4C3D-93E0-27FDBF2BF1D7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freeplaymusic.com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hyperlink" Target="http://web.mit.edu/invent/iow/ford.html" TargetMode="Externa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"/>
          <p:cNvSpPr txBox="1"/>
          <p:nvPr/>
        </p:nvSpPr>
        <p:spPr>
          <a:xfrm>
            <a:off x="380880" y="1523880"/>
            <a:ext cx="830592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Deflate">
              <a:avLst>
                <a:gd name="adj" fmla="val 4409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3b76"/>
                  </a:solidFill>
                  <a:miter/>
                </a:ln>
                <a:gradFill rotWithShape="0">
                  <a:gsLst>
                    <a:gs pos="0">
                      <a:srgbClr val="666699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ASSEMBLY LINE</a:t>
            </a:r>
            <a:endParaRPr b="1" lang="en-US" sz="1800" spc="1" strike="noStrike">
              <a:ln w="9360">
                <a:solidFill>
                  <a:srgbClr val="003b76"/>
                </a:solidFill>
                <a:miter/>
              </a:ln>
              <a:gradFill rotWithShape="0">
                <a:gsLst>
                  <a:gs pos="0">
                    <a:srgbClr val="666699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0" name=""/>
          <p:cNvSpPr/>
          <p:nvPr/>
        </p:nvSpPr>
        <p:spPr>
          <a:xfrm>
            <a:off x="5105520" y="4978440"/>
            <a:ext cx="3276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yl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nday, September 27,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iod 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uter # 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1" name="" descr=""/>
          <p:cNvPicPr/>
          <p:nvPr/>
        </p:nvPicPr>
        <p:blipFill>
          <a:blip r:embed="rId1"/>
          <a:stretch/>
        </p:blipFill>
        <p:spPr>
          <a:xfrm>
            <a:off x="304920" y="6172200"/>
            <a:ext cx="228600" cy="304920"/>
          </a:xfrm>
          <a:prstGeom prst="rect">
            <a:avLst/>
          </a:prstGeom>
          <a:ln w="0">
            <a:noFill/>
          </a:ln>
        </p:spPr>
      </p:pic>
      <p:sp>
        <p:nvSpPr>
          <p:cNvPr id="882" name=""/>
          <p:cNvSpPr/>
          <p:nvPr/>
        </p:nvSpPr>
        <p:spPr>
          <a:xfrm>
            <a:off x="0" y="5986440"/>
            <a:ext cx="403848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usic: free play music,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rock pop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Monday, October 04, 2010, </a:t>
            </a:r>
            <a:r>
              <a:rPr b="0" lang="en-US" sz="14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www.freeplaymusic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Invention: Assembly Lin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ssembly line was so efficient he lowered the cost of ca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ice dropped $56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took 93 minutes to put a car togethe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nry Ford sold 1 million cars that ye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5" name="" descr=""/>
          <p:cNvPicPr/>
          <p:nvPr/>
        </p:nvPicPr>
        <p:blipFill>
          <a:blip r:embed="rId5"/>
          <a:srcRect l="9754" t="8334" r="12195" b="8334"/>
          <a:stretch/>
        </p:blipFill>
        <p:spPr>
          <a:xfrm>
            <a:off x="2895480" y="4572000"/>
            <a:ext cx="2438640" cy="1523880"/>
          </a:xfrm>
          <a:prstGeom prst="rect">
            <a:avLst/>
          </a:prstGeom>
          <a:ln w="0">
            <a:noFill/>
          </a:ln>
        </p:spPr>
      </p:pic>
      <p:sp>
        <p:nvSpPr>
          <p:cNvPr id="886" name=""/>
          <p:cNvSpPr/>
          <p:nvPr/>
        </p:nvSpPr>
        <p:spPr>
          <a:xfrm>
            <a:off x="3276720" y="617220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lip ar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ventor: Henry For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enry was born in 186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e Invented famous Model T ca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price was $850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Assembly line was created in 1908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enry built gasoline engine in 189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e died in 1947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89" name="" descr=""/>
          <p:cNvPicPr/>
          <p:nvPr/>
        </p:nvPicPr>
        <p:blipFill>
          <a:blip r:embed="rId1"/>
          <a:stretch/>
        </p:blipFill>
        <p:spPr>
          <a:xfrm>
            <a:off x="4724280" y="4932360"/>
            <a:ext cx="1749600" cy="1268280"/>
          </a:xfrm>
          <a:prstGeom prst="rect">
            <a:avLst/>
          </a:prstGeom>
          <a:ln w="0">
            <a:noFill/>
          </a:ln>
        </p:spPr>
      </p:pic>
      <p:sp>
        <p:nvSpPr>
          <p:cNvPr id="890" name=""/>
          <p:cNvSpPr/>
          <p:nvPr/>
        </p:nvSpPr>
        <p:spPr>
          <a:xfrm>
            <a:off x="4939560" y="6208560"/>
            <a:ext cx="90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Clip 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93" name="" descr="Ford"/>
          <p:cNvPicPr/>
          <p:nvPr/>
        </p:nvPicPr>
        <p:blipFill>
          <a:blip r:embed="rId1"/>
          <a:srcRect l="32738" t="24738" r="41426" b="22778"/>
          <a:stretch/>
        </p:blipFill>
        <p:spPr>
          <a:xfrm>
            <a:off x="1828800" y="228600"/>
            <a:ext cx="5334120" cy="1295280"/>
          </a:xfrm>
          <a:prstGeom prst="rect">
            <a:avLst/>
          </a:prstGeom>
          <a:ln w="0">
            <a:noFill/>
          </a:ln>
        </p:spPr>
      </p:pic>
      <p:pic>
        <p:nvPicPr>
          <p:cNvPr id="894" name="" descr="Ford"/>
          <p:cNvPicPr/>
          <p:nvPr/>
        </p:nvPicPr>
        <p:blipFill>
          <a:blip r:embed="rId2"/>
          <a:srcRect l="1907" t="4059" r="76159" b="6928"/>
          <a:stretch/>
        </p:blipFill>
        <p:spPr>
          <a:xfrm>
            <a:off x="533520" y="27432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895" name="" descr="Ford"/>
          <p:cNvPicPr/>
          <p:nvPr/>
        </p:nvPicPr>
        <p:blipFill>
          <a:blip r:embed="rId3"/>
          <a:srcRect l="70481" t="5318" r="2161" b="1889"/>
          <a:stretch/>
        </p:blipFill>
        <p:spPr>
          <a:xfrm>
            <a:off x="4800600" y="2666880"/>
            <a:ext cx="2895480" cy="2667240"/>
          </a:xfrm>
          <a:prstGeom prst="rect">
            <a:avLst/>
          </a:prstGeom>
          <a:ln w="0">
            <a:noFill/>
          </a:ln>
        </p:spPr>
      </p:pic>
      <p:sp>
        <p:nvSpPr>
          <p:cNvPr id="896" name=""/>
          <p:cNvSpPr/>
          <p:nvPr/>
        </p:nvSpPr>
        <p:spPr>
          <a:xfrm>
            <a:off x="304920" y="5638680"/>
            <a:ext cx="84582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melson Mit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The Assembly Lin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 September 29, 2010 </a:t>
            </a: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hlinkClick r:id="rId4"/>
              </a:rPr>
              <a:t>http://web.mit.edu/invent/iow/ford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609480" y="1752480"/>
            <a:ext cx="822960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609480" y="190512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685800" y="5791320"/>
            <a:ext cx="8077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762120" y="190512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1" name="" descr=""/>
          <p:cNvPicPr/>
          <p:nvPr/>
        </p:nvPicPr>
        <p:blipFill>
          <a:blip r:embed="rId5"/>
          <a:stretch/>
        </p:blipFill>
        <p:spPr>
          <a:xfrm>
            <a:off x="6248520" y="5867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1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1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745" fill="hold"/>
                                        <p:tgtEl>
                                          <p:spTgt spid="9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7T17:34:07Z</dcterms:created>
  <dc:creator>install</dc:creator>
  <dc:description/>
  <dc:language>en-US</dc:language>
  <cp:lastModifiedBy>install</cp:lastModifiedBy>
  <dcterms:modified xsi:type="dcterms:W3CDTF">2010-10-14T17:29:15Z</dcterms:modified>
  <cp:revision>15</cp:revision>
  <dc:subject/>
  <dc:title>Slide 1</dc:title>
</cp:coreProperties>
</file>